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66D-EBC4-4083-8BF9-3BCA438B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9E1-2F1F-4674-B22E-37E2ADCF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3C2-DDBF-42E9-A424-65ED31F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FB5-7ADA-465C-A434-5DE801ED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80B4-8086-4B88-8115-03524EEE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388-17A6-4FF1-9525-CCFE09F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29FB-BF04-483B-8485-F6F7B57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0D3-B41D-4A2F-B581-38F8516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5494-6849-4CD5-8078-0005B1E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74B-AD2F-4D6C-8C39-6E314653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0F1-58A0-44F4-A5FE-94B1CF6A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19F-409F-414A-945D-E03BCCC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6623-C56A-40DB-A4FA-13B2141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7EDD-8F25-4D8D-B8C3-1BC59AB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6660-C856-41C0-AEA6-FC11BB2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C30-B494-4C05-BDAC-3AE08727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891-A8CF-452F-80ED-486FCF0C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ED7-D85F-4BB5-B96D-25DA59A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A07-038F-404E-9320-69715B7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E42-F478-423D-9A5A-42D10AC8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344-5A27-403D-B602-D8B88446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EC6-3D62-4957-91F0-6C0E22A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9DC-051D-4561-9C61-AC3BEF7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DDA-7333-4C80-B122-EDD9632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14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fr-FR" sz="54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Modifiez le style du titre</a:t>
            </a:r>
            <a:endParaRPr b="0" lang="fr-F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L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fr-L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2E8EEE-43CB-489C-8AE4-334126A49F9D}" type="slidenum">
              <a:rPr b="0" lang="fr-F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fr-F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fr-F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fr-F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83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fr-FR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Modifiez le style du titre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1800" spc="-1" strike="noStrike">
                <a:solidFill>
                  <a:srgbClr val="404040"/>
                </a:solidFill>
                <a:latin typeface="Century Gothic"/>
              </a:rPr>
              <a:t>Modifier les styles du texte du masque</a:t>
            </a: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1600" spc="-1" strike="noStrike">
                <a:solidFill>
                  <a:srgbClr val="404040"/>
                </a:solidFill>
                <a:latin typeface="Century Gothic"/>
              </a:rPr>
              <a:t>Deuxième niveau</a:t>
            </a:r>
            <a:endParaRPr b="0" lang="fr-FR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1400" spc="-1" strike="noStrike">
                <a:solidFill>
                  <a:srgbClr val="404040"/>
                </a:solidFill>
                <a:latin typeface="Century Gothic"/>
              </a:rPr>
              <a:t>Troisième niveau</a:t>
            </a:r>
            <a:endParaRPr b="0" lang="fr-FR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1200" spc="-1" strike="noStrike">
                <a:solidFill>
                  <a:srgbClr val="404040"/>
                </a:solidFill>
                <a:latin typeface="Century Gothic"/>
              </a:rPr>
              <a:t>Quatrième niveau</a:t>
            </a:r>
            <a:endParaRPr b="0" lang="fr-F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1200" spc="-1" strike="noStrike">
                <a:solidFill>
                  <a:srgbClr val="404040"/>
                </a:solidFill>
                <a:latin typeface="Century Gothic"/>
              </a:rPr>
              <a:t>Cinquième niveau</a:t>
            </a:r>
            <a:endParaRPr b="0" lang="fr-FR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L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fr-L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9108CF-5585-4E59-845A-63D7BE913A7C}" type="slidenum">
              <a:rPr b="0" lang="fr-F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helpdesk@integratioun.l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7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54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Plan Communal Intégration</a:t>
            </a:r>
            <a:endParaRPr b="0" lang="fr-F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654280" y="4318920"/>
            <a:ext cx="9054720" cy="9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CH" sz="2400" spc="-1" strike="noStrike">
                <a:solidFill>
                  <a:srgbClr val="595959"/>
                </a:solidFill>
                <a:latin typeface="Century Gothic"/>
              </a:rPr>
              <a:t>E strategesche Kader fir d’Integratioun a ménger Gem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4" descr=""/>
          <p:cNvPicPr/>
          <p:nvPr/>
        </p:nvPicPr>
        <p:blipFill>
          <a:blip r:embed="rId1"/>
          <a:stretch/>
        </p:blipFill>
        <p:spPr>
          <a:xfrm>
            <a:off x="7235640" y="0"/>
            <a:ext cx="4956120" cy="15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Beispill Stad Lëtzebuerg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Le diagnostique a été réalisé par le CEFIS en 3 étapes: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Diagnostique interne auprès des services communaux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Diagnostique externe </a:t>
            </a:r>
            <a:r>
              <a:rPr b="0" lang="fr-LU" sz="2400" spc="-1" strike="noStrike">
                <a:solidFill>
                  <a:srgbClr val="404040"/>
                </a:solidFill>
                <a:latin typeface="Century Gothic"/>
              </a:rPr>
              <a:t>réalisé lors de soirées thématiques auprès de la population et d’entretiens avec des structures clés de l’intégration, des associations ainsi qu’avec la Commission Communale Consultative d’Intégration.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400" spc="-1" strike="noStrike">
                <a:solidFill>
                  <a:srgbClr val="404040"/>
                </a:solidFill>
                <a:latin typeface="Century Gothic"/>
              </a:rPr>
              <a:t>Identification de pistes de réflexion et de recommandations pour l’élaboration du PCI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2C9-B053-4A25-B1BE-050A789BEE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3093EF-C52C-4FFC-BF42-2333069DB97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Beispill Stroossen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CH" sz="2800" spc="-1" strike="noStrike">
                <a:solidFill>
                  <a:srgbClr val="404040"/>
                </a:solidFill>
                <a:latin typeface="Century Gothic"/>
              </a:rPr>
              <a:t>A Strassen, le diagnostique réalisé par le CEFIS devait: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fr-FR" sz="2800" spc="-1" strike="noStrike">
                <a:solidFill>
                  <a:srgbClr val="404040"/>
                </a:solidFill>
                <a:latin typeface="Century Gothic"/>
              </a:rPr>
              <a:t>Faire la synthèse des travaux réalisés par un groupe de travail, de divers documents fournis par le service intégration et de données statistiques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fr-CH" sz="2800" spc="-1" strike="noStrike">
                <a:solidFill>
                  <a:srgbClr val="404040"/>
                </a:solidFill>
                <a:latin typeface="Century Gothic"/>
              </a:rPr>
              <a:t>P</a:t>
            </a:r>
            <a:r>
              <a:rPr b="0" i="1" lang="fr-FR" sz="2800" spc="-1" strike="noStrike">
                <a:solidFill>
                  <a:srgbClr val="404040"/>
                </a:solidFill>
                <a:latin typeface="Century Gothic"/>
              </a:rPr>
              <a:t>ermettre de réaliser un plan cadre général pour l’intégration, la diversité et l’égalité des chances (en partant des plans déjà existants à cet effet)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fr-CH" sz="2800" spc="-1" strike="noStrike">
                <a:solidFill>
                  <a:srgbClr val="404040"/>
                </a:solidFill>
                <a:latin typeface="Century Gothic"/>
              </a:rPr>
              <a:t>F</a:t>
            </a:r>
            <a:r>
              <a:rPr b="0" i="1" lang="fr-FR" sz="2800" spc="-1" strike="noStrike">
                <a:solidFill>
                  <a:srgbClr val="404040"/>
                </a:solidFill>
                <a:latin typeface="Century Gothic"/>
              </a:rPr>
              <a:t>ournir des pistes détaillées pour l’élaboration d’actions et d’initiatives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FAB3-0AA3-421D-AEFF-9267BC1742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3A22F9-2CC8-4347-A03C-69CB713E1F4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Un sondage parmi la population locale par TNS-Ilres  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89120" y="1905120"/>
            <a:ext cx="9018360" cy="43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CH" sz="2400" spc="-1" strike="noStrike">
                <a:solidFill>
                  <a:srgbClr val="404040"/>
                </a:solidFill>
                <a:latin typeface="Century Gothic"/>
              </a:rPr>
              <a:t>Le sondage permet de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Connaître l’attitude de la population par rapport à des questions précises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Evaluer la pertinence de mesures et d’initiatives envisagées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Sentir le pouls du vivre ensemble de manière générale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Valoriser l’avis de chaque résident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Thématiser les défis du vivre ensemble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0920" indent="-340920">
              <a:lnSpc>
                <a:spcPct val="11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Possibilité aussi d’organiser des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consultations citoyennes : échange prolongé sur 1 à 2 journées de débat avec 30 à 60 citoyens, restitution publique à la fin avec presse et rapport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D8C8-0223-454F-A10E-33114FD967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95AC56-3C2E-4C86-8C39-AF38C5563A6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Beispill: PCI Miselerland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89120" y="1523880"/>
            <a:ext cx="93736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CH" sz="2000" spc="-1" strike="noStrike">
                <a:solidFill>
                  <a:srgbClr val="404040"/>
                </a:solidFill>
                <a:latin typeface="Century Gothic"/>
              </a:rPr>
              <a:t>Exemples de questions: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Nationalité, origine, âge, éducation, enfants, secteur d’occupation, etc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Qualité des services communaux, qualité de vie en général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Participation à la vie sociale, participation politique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Points forts, points faibles de la commune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Satisfaction personnelle par rapport à l’offre communale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Attachement par rapport à la commune, au pays, au pays d’origine 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Critères d’inclusion (travail, langue, participation sociétale, nationalité, etc.)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Caractéristiques du vivre ensemble dans votre commune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BC81-892C-4C03-8F0D-15AE68E257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C600C7C-4439-45EC-BE7F-E5C5C488606E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Digitale Biirgerforum fir d’Gemeng 4motion 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Le forum citoyen en ligne ou le questionnement de la population permet d’impliquer les citoyens dans le processus d’élaboration du PCI: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État des lieux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Identification des pistes à suivre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Processus de conception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Définition de projets concrets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CH" sz="2400" spc="-1" strike="noStrike">
                <a:solidFill>
                  <a:srgbClr val="404040"/>
                </a:solidFill>
                <a:latin typeface="Century Gothic"/>
              </a:rPr>
              <a:t>Evaluation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8955-A5FE-4765-8F85-DA99E9B043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A38631-2CB4-4367-90A1-63DF731CAC0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Beispill Esch-Uelzecht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8" name="Espace réservé du contenu 7" descr=""/>
          <p:cNvPicPr/>
          <p:nvPr/>
        </p:nvPicPr>
        <p:blipFill>
          <a:blip r:embed="rId1"/>
          <a:stretch/>
        </p:blipFill>
        <p:spPr>
          <a:xfrm>
            <a:off x="2434680" y="1472400"/>
            <a:ext cx="7215480" cy="450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0CC5-59C3-44DA-8C81-58C01C4F3F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FE05C1C-D349-4D10-9B45-CD6C03E9EBC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Kofinanzéierung vum PCI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89120" y="1689120"/>
            <a:ext cx="8915040" cy="42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3200" spc="-1" strike="noStrike">
                <a:solidFill>
                  <a:srgbClr val="404040"/>
                </a:solidFill>
                <a:latin typeface="Century Gothic"/>
              </a:rPr>
              <a:t>Dans le cadre de l’appel à projets lancé par l’OLAI à l’attention des communes, un cofinancement à hauteur de 25.000€ peut être accordé aux communes souhaitant réaliser un PCI (maximum 75% des coûts réels).</a:t>
            </a:r>
            <a:endParaRPr b="0" lang="fr-FR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90D-3A84-4916-83A9-7B0289D276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5269AD-C594-4801-9562-43DAC06B3D4D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22640" y="1473120"/>
            <a:ext cx="9281880" cy="419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fr-CH" sz="44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Merci pour votre attention!</a:t>
            </a:r>
            <a:br>
              <a:rPr sz="4400"/>
            </a:br>
            <a:r>
              <a:rPr b="1" lang="fr-CH" sz="44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Merci fir Äer Opmierksamkeet!</a:t>
            </a:r>
            <a:br>
              <a:rPr sz="4400"/>
            </a:br>
            <a:br>
              <a:rPr sz="4400"/>
            </a:br>
            <a:r>
              <a:rPr b="1" lang="fr-CH" sz="3100" spc="-1" strike="noStrike">
                <a:solidFill>
                  <a:srgbClr val="404040"/>
                </a:solidFill>
                <a:latin typeface="Century Gothic"/>
              </a:rPr>
              <a:t>Philippe ESCHENAUER – Marc FABER – Laura ZUCCOLI</a:t>
            </a:r>
            <a:br>
              <a:rPr sz="4400"/>
            </a:br>
            <a:r>
              <a:rPr b="1" lang="fr-CH" sz="31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Century Gothic"/>
                <a:hlinkClick r:id="rId1"/>
              </a:rPr>
              <a:t>helpdesk@integratioun.lu</a:t>
            </a:r>
            <a:br>
              <a:rPr sz="3100"/>
            </a:br>
            <a:r>
              <a:rPr b="1" lang="fr-CH" sz="31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TEL: 43 83 331</a:t>
            </a:r>
            <a:endParaRPr b="0" lang="fr-FR" sz="3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2" name="Espace réservé du contenu 7" descr=""/>
          <p:cNvPicPr/>
          <p:nvPr/>
        </p:nvPicPr>
        <p:blipFill>
          <a:blip r:embed="rId2"/>
          <a:stretch/>
        </p:blipFill>
        <p:spPr>
          <a:xfrm>
            <a:off x="7936920" y="82440"/>
            <a:ext cx="4003200" cy="128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4720-0EB6-4645-9E33-F764E5D5E5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71E5EC2-A54D-4BB5-82A1-BD60F2A9CE1F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Waat ass e PCI?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11480" y="1519200"/>
            <a:ext cx="9966240" cy="461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Le PCI a été conçu par le SYVICOL et l’Office luxembourgeois de l’accueil et de l’intégration (OLAI) pour doter les communes d’un </a:t>
            </a:r>
            <a:r>
              <a:rPr b="1" lang="fr-FR" sz="2400" spc="-1" strike="noStrike">
                <a:solidFill>
                  <a:srgbClr val="404040"/>
                </a:solidFill>
                <a:latin typeface="Century Gothic"/>
              </a:rPr>
              <a:t>instrument de gestion politique structuré en matière d’intégration locale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qui :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définit une approche transversale et un cadre stratégique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concerne tous les domaines du vivre ensemble au niveau local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s’inscrit dans une démarche territoriale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va au-delà de la mise en œuvre d’actions ponctuelles et isolées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s’inspire des besoins et attentes de la population et de ses représentants politiques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implique et responsabilise un maximum d’acteurs.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8356-6688-4883-8C9F-7813F06317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048DE5-42EE-4366-921C-608480E415E2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Wéi en Zäitraum fir e PCI?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Concevoir et mettre en œuvre un Plan Communal Intégration est un travail à moyen et long terme.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Toutes les actions locales déjà menées (soirée de bienvenue, fête multiculturelle, …) constituent une base de départ qui peut servir à une mise en place structurée et durable d’un PCI.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7AE-C0A4-42BA-81BA-42FDEC0039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6D9B68-0A5E-453F-99E3-DE02AAED88B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Wien mécht e PCI?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89120" y="1744560"/>
            <a:ext cx="8915040" cy="41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Le PCI peut être réalisé par </a:t>
            </a:r>
            <a:r>
              <a:rPr b="1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une commune </a:t>
            </a:r>
            <a:r>
              <a:rPr b="0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ou au niveau d’un territoire plus vaste dans le cadre </a:t>
            </a:r>
            <a:r>
              <a:rPr b="1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d’une collaboration intercommunale</a:t>
            </a:r>
            <a:r>
              <a:rPr b="0" lang="fr-FR" sz="26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. </a:t>
            </a:r>
            <a:endParaRPr b="0" lang="fr-FR" sz="2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fr-FR" sz="28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	</a:t>
            </a:r>
            <a:r>
              <a:rPr b="0" i="1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Une </a:t>
            </a:r>
            <a:r>
              <a:rPr b="1" i="1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collaboration intercommunale </a:t>
            </a:r>
            <a:r>
              <a:rPr b="0" i="1" lang="fr-FR" sz="30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permet surtout d’unir les forces, les idées, les ressources et les coûts éventuels.</a:t>
            </a:r>
            <a:endParaRPr b="0" lang="fr-FR" sz="3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fr-FR" sz="2800" spc="-1" strike="noStrike">
                <a:solidFill>
                  <a:srgbClr val="404040"/>
                </a:solidFill>
                <a:latin typeface="Cambria"/>
                <a:ea typeface="ＭＳ Ｐゴシック"/>
              </a:rPr>
              <a:t> 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558B-64B1-46ED-A003-49144838F5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056B20-D786-4FC1-8A8C-BD634CB7001A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Eng transparent Approche an 3 Etapen an 10 Schrëtt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entury Gothic"/>
              </a:rPr>
              <a:t>Étape I : Mise en route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1)   Décision du conseil communal </a:t>
            </a:r>
            <a:r>
              <a:rPr b="0" lang="fr-FR" sz="2400" spc="-1" strike="noStrike">
                <a:solidFill>
                  <a:srgbClr val="7030a0"/>
                </a:solidFill>
                <a:latin typeface="Century Gothic"/>
              </a:rPr>
              <a:t>de son intention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à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réaliser un Plan Communal Intégration (délibération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type à votre disposition)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2)   Mobilisation de l’administration et de la population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locale en impliquant des acteurs-clés (membres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CCCI, associations, évtl. multiplicateurs,..etc.)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3)   Constitution d’un comité de pilotage responsable de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la concrétisation du PCI.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611-AE9C-43F7-83E4-F7A87EA0E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408486F-36E0-46FC-93BE-45BB60289C46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Eng transparent Approche an 3 Etapen an 10 Schrëtt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9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entury Gothic"/>
              </a:rPr>
              <a:t>Étape II : Élaboration du PCI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38760" indent="-3387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4)   État des lieux et diagnostic des besoins (p.ex. par 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inventaires, études par sondages, atelier d’avenir,…)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38760" indent="-3387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5)   Définition des domaines d’action et public cibles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38760" indent="-3387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6)   Fixation des objectifs et des résultats attendus.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38760" indent="-3387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7)   Définition des actions et élaboration du plan 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d’actions (acteurs, ressources, budget et 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calendrier). 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marL="338760" indent="-33876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8)   Adoption du PCI et des </a:t>
            </a:r>
            <a:r>
              <a:rPr b="0" lang="fr-FR" sz="2800" spc="-1" strike="noStrike">
                <a:solidFill>
                  <a:srgbClr val="7030a0"/>
                </a:solidFill>
                <a:latin typeface="Century Gothic"/>
              </a:rPr>
              <a:t>actions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fr-FR" sz="2800" spc="-1" strike="noStrike">
                <a:solidFill>
                  <a:srgbClr val="7030a0"/>
                </a:solidFill>
                <a:latin typeface="Century Gothic"/>
              </a:rPr>
              <a:t>qu’il préconise 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par 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800" spc="-1" strike="noStrike">
                <a:solidFill>
                  <a:srgbClr val="404040"/>
                </a:solidFill>
                <a:latin typeface="Century Gothic"/>
              </a:rPr>
              <a:t>le conseil communal et dépôt auprès de l’OLAI</a:t>
            </a:r>
            <a:endParaRPr b="0" lang="fr-FR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C72D-E457-4619-BDAD-F4D8AADC6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EC3DD8-2469-4971-8AF3-0DD51254ED0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Eng transparent Approche an 3 Etapen an 10 Schrëtt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entury Gothic"/>
              </a:rPr>
              <a:t>Étape III : Réalisation et évaluation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9)   Réalisation des actions selon le calendrier prévu et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sous la</a:t>
            </a:r>
            <a:r>
              <a:rPr b="0" lang="fr-L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coordination du comité de pilotage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10) Évaluation des résultats des actions et du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fonctionnement général du PCI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1DA-AD12-424E-9ADC-0211E7C8F8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FE2E2D-A295-43D8-B450-D378FCD61C3A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fr-CH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Hëllef beim Ausschaffe vum PCI</a:t>
            </a:r>
            <a:endParaRPr b="0" lang="fr-F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89120" y="1674000"/>
            <a:ext cx="891504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marL="359640" indent="-3596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Aide institutionnelle par le SYVICOL et l’OLAI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9640" indent="-3596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de-DE" sz="2400" spc="-1" strike="noStrike">
                <a:solidFill>
                  <a:srgbClr val="404040"/>
                </a:solidFill>
                <a:latin typeface="Century Gothic"/>
              </a:rPr>
              <a:t>Accompagnement par le Helpdesk </a:t>
            </a:r>
            <a:r>
              <a:rPr b="0" i="1" lang="de-DE" sz="2400" spc="-1" strike="noStrike">
                <a:solidFill>
                  <a:srgbClr val="404040"/>
                </a:solidFill>
                <a:latin typeface="Century Gothic"/>
              </a:rPr>
              <a:t>Integratioun</a:t>
            </a:r>
            <a:r>
              <a:rPr b="0" lang="de-DE" sz="2400" spc="-1" strike="noStrike">
                <a:solidFill>
                  <a:srgbClr val="404040"/>
                </a:solidFill>
                <a:latin typeface="Century Gothic"/>
              </a:rPr>
              <a:t> p.ex. au sein du comité de pilotage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9640" indent="-3596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Recours à un chargé de projet communal ou externe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9640" indent="-3596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Des experts sont disponibles (Cefis, 4motion, etc) </a:t>
            </a:r>
            <a:r>
              <a:rPr b="0" lang="de-DE" sz="2400" spc="-1" strike="noStrike">
                <a:solidFill>
                  <a:srgbClr val="404040"/>
                </a:solidFill>
                <a:latin typeface="Century Gothic"/>
              </a:rPr>
              <a:t>pour mener un état des lieux des ressources, un diagnostic des besoins, un aperçu des </a:t>
            </a: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statistiques communales relevantes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marL="359640" indent="-3596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Century Gothic"/>
              </a:rPr>
              <a:t>Sur demande soutien ponctuel par des experts (instituts de sondage, agences spécialisées, facilitateurs, etc). </a:t>
            </a:r>
            <a:endParaRPr b="0" lang="fr-FR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DB7-EDC3-4376-86F7-530B3570BF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00AC55E-58CD-4B96-A23E-0E1CC4F55D1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47640" y="624240"/>
            <a:ext cx="90565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1" lang="fr-LU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Diagnostic vun der lokaler Integratioun </a:t>
            </a:r>
            <a:br>
              <a:rPr sz="3600"/>
            </a:br>
            <a:r>
              <a:rPr b="1" lang="fr-LU" sz="36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CEFIS – </a:t>
            </a:r>
            <a:r>
              <a:rPr b="1" lang="fr-LU" sz="2000" spc="-1" strike="noStrike">
                <a:solidFill>
                  <a:schemeClr val="accent2">
                    <a:lumMod val="75000"/>
                  </a:schemeClr>
                </a:solidFill>
                <a:latin typeface="Century Gothic"/>
              </a:rPr>
              <a:t>Centre d’Etude et de Formation Interculturelles et sociales</a:t>
            </a:r>
            <a:br>
              <a:rPr sz="3600"/>
            </a:br>
            <a:endParaRPr b="0" lang="fr-FR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89120" y="1905120"/>
            <a:ext cx="8915040" cy="422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fr-CH" sz="2000" spc="-1" strike="noStrike">
                <a:solidFill>
                  <a:srgbClr val="404040"/>
                </a:solidFill>
                <a:latin typeface="Century Gothic"/>
              </a:rPr>
              <a:t>Le diagnostique </a:t>
            </a:r>
            <a:r>
              <a:rPr b="1" lang="fr-LU" sz="2000" spc="-1" strike="noStrike">
                <a:solidFill>
                  <a:srgbClr val="404040"/>
                </a:solidFill>
                <a:latin typeface="Century Gothic"/>
              </a:rPr>
              <a:t>permet de développer des actions ajustées et adaptées aux spécificités de la commune en prenant en compte: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a population et ses caractéristiques (nationalités, </a:t>
            </a:r>
            <a:r>
              <a:rPr b="0" lang="fr-CH" sz="2000" spc="-1" strike="noStrike">
                <a:solidFill>
                  <a:srgbClr val="404040"/>
                </a:solidFill>
                <a:latin typeface="Century Gothic"/>
              </a:rPr>
              <a:t>âg</a:t>
            </a: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e,...)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es nouveaux arrivants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a diversité culturelle parmi les usagers qui ont recours aux services et offres de la commune.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’inventaire des actions réalisées par les acteurs communaux.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es aspirations, attentes et besoins des populations (sondage ou soirées d’échange)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fr-LU" sz="2000" spc="-1" strike="noStrike">
                <a:solidFill>
                  <a:srgbClr val="404040"/>
                </a:solidFill>
                <a:latin typeface="Century Gothic"/>
              </a:rPr>
              <a:t>La diversité culturelle parmi le personnel communal.</a:t>
            </a:r>
            <a:endParaRPr b="0" lang="fr-FR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fr-F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lpdesk Integratioun helpdesk@integratioun.lu www.integratioun.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BE4F-E141-4182-BF81-43FA1CBAA5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C00EE4-1F16-4C2E-B7F4-7A3D6F5FAA87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rin">
  <a:themeElements>
    <a:clrScheme name="Brin">
      <a:dk1>
        <a:srgbClr val="000000"/>
      </a:dk1>
      <a:lt1>
        <a:srgbClr val="ffffff"/>
      </a:lt1>
      <a:dk2>
        <a:srgbClr val="2e5369"/>
      </a:dk2>
      <a:lt2>
        <a:srgbClr val="cfe2e7"/>
      </a:lt2>
      <a:accent1>
        <a:srgbClr val="353535"/>
      </a:accent1>
      <a:accent2>
        <a:srgbClr val="31b4e6"/>
      </a:accent2>
      <a:accent3>
        <a:srgbClr val="265991"/>
      </a:accent3>
      <a:accent4>
        <a:srgbClr val="7e40cc"/>
      </a:accent4>
      <a:accent5>
        <a:srgbClr val="b927e9"/>
      </a:accent5>
      <a:accent6>
        <a:srgbClr val="e833bf"/>
      </a:accent6>
      <a:hlink>
        <a:srgbClr val="2da0f1"/>
      </a:hlink>
      <a:folHlink>
        <a:srgbClr val="7ed1e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rin">
  <a:themeElements>
    <a:clrScheme name="Brin">
      <a:dk1>
        <a:srgbClr val="000000"/>
      </a:dk1>
      <a:lt1>
        <a:srgbClr val="ffffff"/>
      </a:lt1>
      <a:dk2>
        <a:srgbClr val="2e5369"/>
      </a:dk2>
      <a:lt2>
        <a:srgbClr val="cfe2e7"/>
      </a:lt2>
      <a:accent1>
        <a:srgbClr val="353535"/>
      </a:accent1>
      <a:accent2>
        <a:srgbClr val="31b4e6"/>
      </a:accent2>
      <a:accent3>
        <a:srgbClr val="265991"/>
      </a:accent3>
      <a:accent4>
        <a:srgbClr val="7e40cc"/>
      </a:accent4>
      <a:accent5>
        <a:srgbClr val="b927e9"/>
      </a:accent5>
      <a:accent6>
        <a:srgbClr val="e833bf"/>
      </a:accent6>
      <a:hlink>
        <a:srgbClr val="2da0f1"/>
      </a:hlink>
      <a:folHlink>
        <a:srgbClr val="7ed1e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{69B13221-3794-4641-8337-4D94A2E0B480}tf10001069</Template>
  <TotalTime>628</TotalTime>
  <Application>LibreOffice/7.4.7.2$Linux_X86_64 LibreOffice_project/40$Build-2</Application>
  <AppVersion>15.0000</AppVersion>
  <Words>1019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07:17:02Z</dcterms:created>
  <dc:creator>Asti Ensemble</dc:creator>
  <dc:description/>
  <dc:language>en-US</dc:language>
  <cp:lastModifiedBy>Asti Ensemble</cp:lastModifiedBy>
  <dcterms:modified xsi:type="dcterms:W3CDTF">2018-06-11T13:37:59Z</dcterms:modified>
  <cp:revision>32</cp:revision>
  <dc:subject/>
  <dc:title>Plan Communal Inté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Grand écran</vt:lpwstr>
  </property>
  <property fmtid="{D5CDD505-2E9C-101B-9397-08002B2CF9AE}" pid="3" name="Slides">
    <vt:r8>17</vt:r8>
  </property>
</Properties>
</file>